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F313-D1A1-4990-A578-77EB2276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218-A204-4383-9DB4-E9044A49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07F-D82D-4FEB-AE4B-380F8183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5C3-FD93-4A6C-B771-A90C99CB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EBED-441E-4ABB-89E6-5DA9830E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3C7F-13C3-4688-B1D5-213BF554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331E-2FF8-4D68-9171-D6D60286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9C9A-9A42-4C65-B438-39BE810A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D7B7-8F49-48B0-BE17-C9EF588B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8AB3-5306-4439-9719-87E66DB5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7D1F-CF64-430E-9BD7-4A6A2C2C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A291-629A-4D02-B52D-664E72CC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D78B-BDC8-4C5D-923F-36B5A715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047F-483C-4F00-A3ED-F95B1C5A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35D8-3BA6-4645-AA3D-318D31E6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B841-513A-4052-A149-7C7A86AA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F758-6F56-48E4-9504-A3AAFF69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F90-A561-498D-A1D4-9C590B5F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946E-B7EA-4F26-91B6-2D157BBD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23D-8E56-40E7-8FA6-35BB7CD7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B2C-EBB7-4161-9698-ADD5BB4F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94D-5071-4DB3-A15C-27A1CE22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7BE3-E22D-434F-B2A3-ACD2AA99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7C9-F068-40CB-BDBB-6A4D9B9A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6767-4C7E-4350-81A8-7007A133A54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8062200" y="-61200"/>
            <a:ext cx="116532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8013600" y="6012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093080" y="5373720"/>
            <a:ext cx="1783800" cy="1246320"/>
            <a:chOff x="7093080" y="5373720"/>
            <a:chExt cx="1783800" cy="1246320"/>
          </a:xfrm>
        </p:grpSpPr>
        <p:sp>
          <p:nvSpPr>
            <p:cNvPr id="9" name=""/>
            <p:cNvSpPr/>
            <p:nvPr/>
          </p:nvSpPr>
          <p:spPr>
            <a:xfrm>
              <a:off x="7122960" y="5397480"/>
              <a:ext cx="172836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07320" y="5519880"/>
              <a:ext cx="11232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116480" y="5824440"/>
              <a:ext cx="125712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289640" y="5878440"/>
              <a:ext cx="83304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854840" y="5440320"/>
              <a:ext cx="21384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02520" y="6442200"/>
              <a:ext cx="12024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885080" y="5559480"/>
              <a:ext cx="30600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45360" y="5532480"/>
              <a:ext cx="57744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35600" y="5695920"/>
              <a:ext cx="24732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093080" y="5373720"/>
              <a:ext cx="1783800" cy="1238400"/>
              <a:chOff x="7093080" y="5373720"/>
              <a:chExt cx="178380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876800" y="5487840"/>
                <a:ext cx="869400" cy="1124280"/>
                <a:chOff x="7876800" y="5487840"/>
                <a:chExt cx="86940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876800" y="5527800"/>
                  <a:ext cx="24912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8094240" y="6400800"/>
                  <a:ext cx="18216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678160" y="5487840"/>
                  <a:ext cx="6804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7205400" y="5757840"/>
                <a:ext cx="94428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497720" y="6002280"/>
                <a:ext cx="38700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981560" y="5675400"/>
                <a:ext cx="16956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093080" y="5373720"/>
                <a:ext cx="1783800" cy="1076400"/>
                <a:chOff x="7093080" y="5373720"/>
                <a:chExt cx="178380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146800" y="6259680"/>
                  <a:ext cx="11880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093080" y="5751360"/>
                  <a:ext cx="133632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52920" y="5818320"/>
                  <a:ext cx="12672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797600" y="5373720"/>
                  <a:ext cx="51084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8002440" y="5627520"/>
                  <a:ext cx="15192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7605360" y="5595840"/>
                  <a:ext cx="30924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129520" y="5450040"/>
                  <a:ext cx="74736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8223120" y="5557680"/>
                  <a:ext cx="38844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893080" y="2116080"/>
            <a:ext cx="173160" cy="3112920"/>
            <a:chOff x="8893080" y="2116080"/>
            <a:chExt cx="173160" cy="3112920"/>
          </a:xfrm>
        </p:grpSpPr>
        <p:sp>
          <p:nvSpPr>
            <p:cNvPr id="36" name=""/>
            <p:cNvSpPr/>
            <p:nvPr/>
          </p:nvSpPr>
          <p:spPr>
            <a:xfrm flipH="1">
              <a:off x="8893080" y="3592080"/>
              <a:ext cx="146160" cy="16369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920080" y="2116080"/>
              <a:ext cx="146160" cy="18730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449480" y="-177840"/>
            <a:ext cx="2427120" cy="2246760"/>
            <a:chOff x="7449480" y="-177840"/>
            <a:chExt cx="2427120" cy="2246760"/>
          </a:xfrm>
        </p:grpSpPr>
        <p:grpSp>
          <p:nvGrpSpPr>
            <p:cNvPr id="39" name=""/>
            <p:cNvGrpSpPr/>
            <p:nvPr/>
          </p:nvGrpSpPr>
          <p:grpSpPr>
            <a:xfrm>
              <a:off x="7449480" y="-177840"/>
              <a:ext cx="2427120" cy="2246760"/>
              <a:chOff x="7449480" y="-177840"/>
              <a:chExt cx="2427120" cy="22467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898120" y="163260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449480" y="-177840"/>
                <a:ext cx="2427120" cy="2246760"/>
                <a:chOff x="7449480" y="-177840"/>
                <a:chExt cx="2427120" cy="22467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8161560" y="2160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292240" y="43524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990920" y="19728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8061480" y="-12096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687520" y="133200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617320" y="118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8191440" y="24192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8133840" y="1339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8008920" y="4248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B0A9-3555-4850-8303-70AAF92AD71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Identify the sentence structure: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y is she so upset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Identify the sentence structure: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e in!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The statement ‘back we went’ is an example of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Write a definition fo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enthes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How do you identify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enthes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. ‘I wandered wearily through the wood’ is an example of what type of narrative voic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‘He stood at the top of the grand staircase surveying the property’ is an example of what type of narrative voic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Write a definition fo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loquial languag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. Write a definition for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gure of spee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. Write a definition for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taph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. Write a definition for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mi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. Write a definition fo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sonific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. What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. What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sona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5. What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omatopoe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9280" y="189000"/>
            <a:ext cx="784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lose Reading Techniques Assess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09:28:18Z</dcterms:created>
  <dc:creator>Gemma Pirie</dc:creator>
  <dc:description/>
  <dc:language>en-US</dc:language>
  <cp:lastModifiedBy>Gemma Pirie</cp:lastModifiedBy>
  <dcterms:modified xsi:type="dcterms:W3CDTF">2006-11-13T12:31:57Z</dcterms:modified>
  <cp:revision>5</cp:revision>
  <dc:subject/>
  <dc:title>Close Reading Quiz</dc:title>
</cp:coreProperties>
</file>